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27.png" ContentType="image/png"/>
  <Override PartName="/ppt/media/image30.wmf" ContentType="image/x-wmf"/>
  <Override PartName="/ppt/media/image26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6.jpeg" ContentType="image/jpeg"/>
  <Override PartName="/ppt/media/image13.wmf" ContentType="image/x-wmf"/>
  <Override PartName="/ppt/media/image14.png" ContentType="image/png"/>
  <Override PartName="/ppt/media/image9.wmf" ContentType="image/x-wmf"/>
  <Override PartName="/ppt/media/image34.wmf" ContentType="image/x-wmf"/>
  <Override PartName="/ppt/media/image33.png" ContentType="image/png"/>
  <Override PartName="/ppt/media/image5.png" ContentType="image/png"/>
  <Override PartName="/ppt/media/image35.png" ContentType="image/png"/>
  <Override PartName="/ppt/media/image18.wmf" ContentType="image/x-wmf"/>
  <Override PartName="/ppt/media/image20.wmf" ContentType="image/x-wmf"/>
  <Override PartName="/ppt/media/image10.wmf" ContentType="image/x-wmf"/>
  <Override PartName="/ppt/media/image25.png" ContentType="image/png"/>
  <Override PartName="/ppt/media/image11.wmf" ContentType="image/x-wmf"/>
  <Override PartName="/ppt/media/image12.png" ContentType="image/png"/>
  <Override PartName="/ppt/media/image7.wmf" ContentType="image/x-wmf"/>
  <Override PartName="/ppt/media/image36.png" ContentType="image/png"/>
  <Override PartName="/ppt/media/image19.wmf" ContentType="image/x-wmf"/>
  <Override PartName="/ppt/media/image37.png" ContentType="image/png"/>
  <Override PartName="/ppt/media/image4.jpeg" ContentType="image/jpeg"/>
  <Override PartName="/ppt/media/image8.wmf" ContentType="image/x-wmf"/>
  <Override PartName="/ppt/media/image28.wmf" ContentType="image/x-wmf"/>
  <Override PartName="/ppt/media/image3.jpeg" ContentType="image/jpeg"/>
  <Override PartName="/ppt/media/image15.png" ContentType="image/png"/>
  <Override PartName="/ppt/media/image32.wmf" ContentType="image/x-wmf"/>
  <Override PartName="/ppt/media/image2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6.png" ContentType="image/pn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916D-6766-4B13-9370-90543E9B1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66B4-8A93-4EC3-906E-E3F5400D8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AC7E-D8BA-4489-AB70-4D82DA103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84CC-8DF3-4125-942B-A7276D469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F3F44-48D7-4415-A713-447D49206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3AB66-C26C-4D66-A3DB-927CD9552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E8B12-9399-4F9F-9399-B79D4D3DF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E914E-34AD-4D7D-AD8D-A5ED80A55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B6C45-F064-4AED-8298-F248092CC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98F29-8EB2-46FA-A61C-82C3251FE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285A8-BBA4-477E-AB97-01D7B588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FE44-7E0B-4D93-B9C2-891F08C9A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C0505-975A-4268-A2E0-3E3CEF0E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AFD1A-8730-44E8-B9FF-3210A84C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C59B1-86F0-4C2F-823B-83CF623B0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07305-25F3-4524-9586-D48FD7B5E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AD587-731B-4C9C-8099-81605CEDF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90B4-9557-44E4-A885-57ADAE7E3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CE61-860A-425D-BD40-C958F9004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5B57-9BC4-4D41-A120-3C74DCFB6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E423-5524-48AB-BF8E-7F716191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A062-02DD-42D0-B9B9-F9773FBB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C4EF-2876-4818-B9BB-A754FC4B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0699-8F20-418E-A484-E2FE0C7D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4AA67-E8E3-4367-8A94-37FF94C01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42200" cy="397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52268-77B1-4621-8EEE-2AB8F47125C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42200" cy="396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cc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cc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cc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hepleasuredrome.co.uk/Images//FlyersPress//boltoneveningnewsarticle.jpg&amp;imgrefurl=http://www.thepleasuredrome.co.uk/ShowImage.aspx%3Ftype%3Dflyerpress%26imgid%3D006&amp;usg=__586ETb1IWikPeaLaI2L9_hJDFf8=&amp;h=768&amp;w=716&amp;sz=426&amp;hl=en&amp;start=18&amp;tbnid=0x9r74wo7IHZWM:&amp;tbnh=142&amp;tbnw=132&amp;prev=/images%3Fq%3DClub%2Bdrugs%26gbv%3D2%26hl%3Den%26sa%3D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png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 Black"/>
              </a:rPr>
              <a:t>Club Drugs</a:t>
            </a:r>
            <a:endParaRPr b="0" lang="en-US" sz="54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09120" y="1905120"/>
            <a:ext cx="78073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600200"/>
            <a:ext cx="2133360" cy="20574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486400" y="914400"/>
            <a:ext cx="2876400" cy="2895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200400" y="3581280"/>
            <a:ext cx="2895480" cy="27432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457200" y="1523880"/>
            <a:ext cx="2762280" cy="31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am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XTC, X, E, Adam, Clarity, Lover’s Speed, hug-drug, E-bomb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ethod Used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wallowed: tablet or capsule.  Normal dosage --100-125 m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 “High”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ositive feelings and empathy for others, feelings of being close to others, decrease in anxiety, euphoria, decreased appetite, decreased thirst or need for slee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Ecstasy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Ecstasy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3915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Ecstasy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178840" cy="453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ffec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Increased energy, nausea, hallucinations, chills, sweating, shaking, blurred vision, rapid heart beat, high blood pressure, muscle cramp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rious Risk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Heat stroke, severe dehydration, possible changes in brain functioning, memory problems, serious depress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Ecstasy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178840" cy="453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aution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xing Ecstasy with Ritonovir (HIV med) can cause deat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xing X with other drugs can lead to adverse reac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 aware that other drugs are sold as Ecstasy, but they are not (DXM, PMA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tually, you “run out” of Serotonin, regardless of how much you tak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Ecstasy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ducing Risk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sure you know what you are taking (use a test kit, if possible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king more may not give you a greater high and may only increase negative side effec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ch for overheating and dehydrating.  Drink water and cool off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Ecstasy- Test Kit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4678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Methamphetamine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133800" y="1447920"/>
            <a:ext cx="6010200" cy="48416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600200" y="1600200"/>
            <a:ext cx="3657600" cy="29764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80880" y="4248000"/>
            <a:ext cx="4496040" cy="22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am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Speed, tina, ice, crystal, meth, crystal meth, crank, fire, gla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ethod Us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Snorted, smoked, injected, swallow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 “High”: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energy, elevated mood, increased sexual arousal, confidence and pleasure, appetite suppressa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Methamphetamine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80520" y="19051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ffec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 Anxiety, rapid heart beat, sweating, energ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rious Risk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 Violence/aggression, hallucinations, paranoia, heart attack, HIV and other transmittable diseases, nerve damage, chronic depression, tooth loss, gum disea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Methamphetamine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Methamphetamine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auti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ing a lot of meth can lead to serious emotional and physical problem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moking and injecting meth is the most dangerou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h contains a lot of dangerous chemical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Key Messages…</a:t>
            </a: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r concern is for health and safet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using is safe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you do use, there are ways to reduc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r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less risk with less use, more risk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th more use.  No risk with no u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Methamphetamine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38188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ducing Risk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now your sour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t and drink plenty of water before, during and after u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stay up longer than 2-3 day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ke some quite/relaxation tim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 aware of your own risk-taking behavi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injecting, use brand new equip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LSD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733920" y="4952880"/>
            <a:ext cx="830160" cy="855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048120" y="3809880"/>
            <a:ext cx="885600" cy="9558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2514600" y="5334120"/>
            <a:ext cx="1062000" cy="10792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1295280" y="4419720"/>
            <a:ext cx="1079640" cy="10792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457200" y="5562720"/>
            <a:ext cx="698400" cy="6778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6"/>
          <a:stretch/>
        </p:blipFill>
        <p:spPr>
          <a:xfrm>
            <a:off x="1011240" y="3200400"/>
            <a:ext cx="992160" cy="10224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7"/>
          <a:stretch/>
        </p:blipFill>
        <p:spPr>
          <a:xfrm>
            <a:off x="2514600" y="685800"/>
            <a:ext cx="640080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80520" y="18284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ames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cid, boomers, liquid sunshine, blotte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ethod Used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ucking on a “blotter” on the tongue, sugar cub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 “High”: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sual hallucina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LS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57200" y="152388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ffec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 Dilated pupils, higher body temperature, increased heart rate and blood pressure, sweating, loss of appetite, sleeplessness, dry mouth, and tremors, numbness, weakness, or trembling, nausea, hallucinations, laugh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rious Risk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 Possible “flashbacks”; poor judgement leading to accidents (crashes, jumping off high plac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LSD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ducing Risk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with those you know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in a safe environ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 not drive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LSD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Inhalants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981080"/>
            <a:ext cx="4038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Popp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553080" y="3581280"/>
            <a:ext cx="190512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3300"/>
                </a:solidFill>
                <a:latin typeface="Times New Roman"/>
              </a:rPr>
              <a:t>Solvent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724280" y="609480"/>
            <a:ext cx="3822840" cy="3060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048120" y="4038480"/>
            <a:ext cx="2590560" cy="25909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609480" y="2666880"/>
            <a:ext cx="2908440" cy="33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Inhalants</a:t>
            </a: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38188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Ga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Lighter fluid, aerosols, embalming fluid (sherms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olve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 Glue, degreasers, paint thinn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itrit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 Poppers, snappers, rush, bold bullet, locker roo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ethod of Us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 Sniffed, huffed, bagg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 Hig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Dizziness, sexual arousal, floating, sleepy, hyper---the high vari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ffec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 Nausea, sneezing, fatigue, coughing, nose bleeds, rapid pulse, headaches, involuntary release urination or feces, impaired judge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rious Risks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Violent behavior, loss of consciousness, loss of feeling in hands and feet, Kidney damage, brain damage, loss of smell, hearing, memory and bone marrow; hepatiti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Inhalants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Inhalants</a:t>
            </a:r>
            <a:r>
              <a:rPr b="0" lang="en-US" sz="4000" spc="-1" strike="noStrike">
                <a:solidFill>
                  <a:srgbClr val="ff33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autio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uffing or using plastic bags increases your risk of overdosing/deat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halants can cause serious damage to lungs and brain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ppers and Viagra can lower blood pressure, cause heart or brain damage and lead to death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1828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 Black"/>
              </a:rPr>
              <a:t>Date Rape Drugs</a:t>
            </a: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057400" y="32000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Avoid Becoming  Victim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xing drugs increases risk for har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ryone responds differently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drug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7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you do use, learn as much as you ca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About your bod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-About your suppli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About the dru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8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with trusted others, possibly even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enced othe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Key Messages…</a:t>
            </a: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886040"/>
            <a:ext cx="868680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hat is it and how does it work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amma-hydroxy-buty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acts as a “depressant” (slows heart, breathing, decreases release of NTs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lly used as an “anti-depressant”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used in body building (muscle builder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609480" y="380520"/>
            <a:ext cx="7569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GHB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0948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0456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ames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quid X, Grievous Bodily Harm, Georgia Home Boy, Cherry Meth, Scoop, Easy Lay, “G”, Salty Water, Soa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ethod Used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ear liquid (dissolved in drinks), white powder, tablet and capsu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 “High”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dation, euphoria, drunk-like feeling. Slows down activities.  Social drug - can release inhibi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609480" y="380520"/>
            <a:ext cx="7569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GHB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569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GHB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895480" y="304920"/>
            <a:ext cx="3353040" cy="30193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6172200" y="1143000"/>
            <a:ext cx="2755800" cy="50418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228600" y="2895480"/>
            <a:ext cx="6629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533160" y="4114440"/>
            <a:ext cx="817884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4000"/>
          </a:bodyPr>
          <a:p>
            <a:pPr marL="2192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nset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0-20 minutes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192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ming Up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5-30 minute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192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lateau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5 min - 1 1/2 hour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192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ming Dow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5-30 minute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192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fter Effect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-4 hour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192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648320" y="4959360"/>
          <a:ext cx="1604880" cy="80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4959360"/>
                    <a:ext cx="1604880" cy="8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457200" y="1600200"/>
            <a:ext cx="7632720" cy="237492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609480" y="380520"/>
            <a:ext cx="7569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GHB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80520" y="137124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ffects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ausea, vomiting, headache, loss of consciousness, coma, seizures, convulsions, difficulty breath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rious Risk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Sexual assaults, deat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0000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ing GHB with alcohol and other drugs is dangerou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0000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se safety range is narrow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0000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drive on GHB!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0000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dosing by a small amount can lead to unconsciousness and vomit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609480" y="304560"/>
            <a:ext cx="7569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GHB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ducing Risk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someone is unconscious or vomiting, lay them on their side and call for hel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mix GHB with other drugs, especially alcoho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rt by taking a small dose and wai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 aware of any strange taste (salty) in your drin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609480" y="380520"/>
            <a:ext cx="7569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GHB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6840" y="19807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hat is it and how does it work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unitrazepam- a prescribed sleeping pill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0X stronger than Valiu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a sedativ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s a “paralysis” type effect in some peop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Rohypnol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38088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95480" y="3809880"/>
            <a:ext cx="541044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380520" y="1828800"/>
            <a:ext cx="85345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ames: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ofies, Rophies, Rope, Roach, “trip and fall”, the “Forget Pill”, “Date Rape Pill”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ethod Used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xed in drink, swallowed, snort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 “High”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leepy, dizzy, relaxed-drunk feeling. Duration of 10 minutes to 8 hou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Rohypnol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581280" y="990720"/>
            <a:ext cx="4889520" cy="405108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Rohypnol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4648320" y="3657600"/>
            <a:ext cx="4267080" cy="2895480"/>
          </a:xfrm>
          <a:prstGeom prst="rect">
            <a:avLst/>
          </a:prstGeom>
          <a:ln w="0">
            <a:noFill/>
          </a:ln>
        </p:spPr>
      </p:pic>
      <p:grpSp>
        <p:nvGrpSpPr>
          <p:cNvPr id="196" name=""/>
          <p:cNvGrpSpPr/>
          <p:nvPr/>
        </p:nvGrpSpPr>
        <p:grpSpPr>
          <a:xfrm>
            <a:off x="685800" y="1219320"/>
            <a:ext cx="5181480" cy="4038480"/>
            <a:chOff x="685800" y="1219320"/>
            <a:chExt cx="5181480" cy="4038480"/>
          </a:xfrm>
        </p:grpSpPr>
        <p:pic>
          <p:nvPicPr>
            <p:cNvPr id="197" name="" descr=""/>
            <p:cNvPicPr/>
            <p:nvPr/>
          </p:nvPicPr>
          <p:blipFill>
            <a:blip r:embed="rId3"/>
            <a:stretch/>
          </p:blipFill>
          <p:spPr>
            <a:xfrm>
              <a:off x="685800" y="1219320"/>
              <a:ext cx="5181480" cy="40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758520" y="1255680"/>
              <a:ext cx="5025960" cy="39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spcBef>
                  <a:spcPts val="601"/>
                </a:spcBef>
                <a:buClr>
                  <a:srgbClr val="0000cc"/>
                </a:buClr>
                <a:buFont typeface="Monotype Sorts" charset="2"/>
                <a:buChar char="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Rohypnol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ffects: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mnesia,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’t speak,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ss of motor control, slurred speech, confusion, gastrointestinal problems, dizziness, urinary retention, blackouts, seizur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rious Risks: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xual assaults.  Mixing with alcohol or other drugs can be very dangerous and lead to death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83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 Black"/>
              </a:rPr>
              <a:t>Club Drugs</a:t>
            </a:r>
            <a:endParaRPr b="0" lang="en-US" sz="54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885680"/>
            <a:ext cx="45720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lcoho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cstas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ethamphetamin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halants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05160" y="1905120"/>
            <a:ext cx="3606840" cy="417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S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GHB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ohypno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Ketamin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 Black"/>
              </a:rPr>
              <a:t>Avoid becoming a victim!</a:t>
            </a: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ug Induced Rape Prevention Act of 1996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s penalty for use of ANY controlled substance to aid in a sexual assault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f you think you could have been poisoned, seek help immediately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spcAft>
                <a:spcPts val="499"/>
              </a:spcAft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GHB: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 Test within </a:t>
            </a:r>
            <a:r>
              <a:rPr b="0" i="1" lang="en-US" sz="3200" spc="-1" strike="noStrike">
                <a:solidFill>
                  <a:srgbClr val="ff0000"/>
                </a:solidFill>
                <a:latin typeface="Tahoma"/>
              </a:rPr>
              <a:t>four to eight hr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,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12 hrs for urine test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t leaves the system very rapidly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spcAft>
                <a:spcPts val="499"/>
              </a:spcAft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ohypnol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ys in system for up to 48 h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153280" cy="491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ducing risk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 wary of drinks from anyone you don’t know or tru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you accept a drink, make sure it’s from an unopened contain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leave drink unattend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you think that you have been a victim, notify authoriti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 Black"/>
              </a:rPr>
              <a:t>Avoid becoming a victim!</a:t>
            </a: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hat is it and how does it work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tamine-hydorchlor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sociative Anaestheti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CP, DXM, nitrous oxide (laughing gas) are also dissociative anaesthetic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an animal tranquiliz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times used as an anesthetic on young children and the elderl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Ketamine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83808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ames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al K, Vitamin K, Ketalar, Kit-Kat, K, Cat Valiu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ethod Used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norted, swallowed, smoked, injected (usually IM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 “Hig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: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Pleasant” feelings, weightlessness, decreased inhibitions, out-of-body experience.  Minor Hallucinogen. “K-Hole”:  near death type experien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Ketamine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419720" y="609480"/>
            <a:ext cx="3962160" cy="30862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Ketamine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3733920" y="3124080"/>
            <a:ext cx="4143240" cy="3486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1143000" y="1523880"/>
            <a:ext cx="34034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057400" y="4724280"/>
            <a:ext cx="4724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38188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ffects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ck of coordination, confusion, seizures, high blood pressure, depression, numbness in leg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rious Risks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xual assault, respiratory collapse-death, kidney damage, difficulty moving, deat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Ketamine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ducing Risk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oid mixing Ketamine with other drugs, especially alcohol and other depressan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rt by taking a small dose and wai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oid inject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injecting, use clean, sterile equip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Ketamine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Key Messages…</a:t>
            </a: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y concern is for health and safet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using is safe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you do use, there are ways to reduc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rm. (Do understand that these drugs may and can steel your life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less risk with less use, more risk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th more u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xing drugs increases risk for har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ryone responds differently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drug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7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you do use, learn as much as you ca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About your bod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About your suppli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About the dru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8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with trusted others, possibly even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enced othe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Key Messages…</a:t>
            </a: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-228600" y="1287360"/>
          <a:ext cx="9829800" cy="557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1287360"/>
                    <a:ext cx="9829800" cy="557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533520" y="304920"/>
            <a:ext cx="8231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Number of Emergency Dept. Episodes &amp; Mentions of Club Drugs 1994 -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234120" y="6553080"/>
            <a:ext cx="252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ahoma"/>
              </a:rPr>
              <a:t>Source……………………..DAW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Estimated Rate of Club Drug Emergency Dept. Episodes &amp; Mentions in Seattle:  1999 - 2001</a:t>
            </a:r>
            <a:endParaRPr b="0" lang="en-US" sz="3200" spc="-1" strike="noStrike">
              <a:solidFill>
                <a:srgbClr val="ff3300"/>
              </a:solidFill>
              <a:latin typeface="Arial Black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752480"/>
          <a:ext cx="8178840" cy="417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8178840" cy="417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528480" y="1711440"/>
          <a:ext cx="8079120" cy="453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8480" y="1711440"/>
                    <a:ext cx="8079120" cy="45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6234120" y="6553080"/>
            <a:ext cx="252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ahoma"/>
              </a:rPr>
              <a:t>Source……………………..DAW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Number of Club Drug Emergency Dept. Mentions by age:  2001</a:t>
            </a:r>
            <a:endParaRPr b="0" lang="en-US" sz="3200" spc="-1" strike="noStrike">
              <a:solidFill>
                <a:srgbClr val="ff3300"/>
              </a:solidFill>
              <a:latin typeface="Arial Black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9280" y="1622520"/>
          <a:ext cx="8917200" cy="481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622520"/>
                    <a:ext cx="8917200" cy="481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234120" y="6553080"/>
            <a:ext cx="252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ahoma"/>
              </a:rPr>
              <a:t>Source……………………..DAW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Number of Club Drug Emergency Dept. Mentions by race/ethnicity:  2001</a:t>
            </a:r>
            <a:endParaRPr b="0" lang="en-US" sz="3200" spc="-1" strike="noStrike">
              <a:solidFill>
                <a:srgbClr val="ff3300"/>
              </a:solidFill>
              <a:latin typeface="Arial Black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79280" y="1622520"/>
          <a:ext cx="8917200" cy="481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622520"/>
                    <a:ext cx="8917200" cy="481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6234120" y="6553080"/>
            <a:ext cx="252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ahoma"/>
              </a:rPr>
              <a:t>Source……………………..DAW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80520" y="14479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hat is it and how does it work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DM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3,4-methylenedioxymethamphetamin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amphetamine analogue that produces euphoria, feelings of closeness to others and stimulant effec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s as a short term antidepressant by releasing large  amounts of Serotonin (a neurotransmitter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Ecstas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5T18:54:32Z</dcterms:created>
  <dc:creator>King County</dc:creator>
  <dc:description/>
  <dc:language>en-US</dc:language>
  <cp:lastModifiedBy>Daly Dominguez</cp:lastModifiedBy>
  <cp:lastPrinted>2002-07-30T18:59:16Z</cp:lastPrinted>
  <dcterms:modified xsi:type="dcterms:W3CDTF">2009-11-03T02:11:57Z</dcterms:modified>
  <cp:revision>9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metrokc.gov/health/apu</vt:lpwstr>
  </property>
  <property fmtid="{D5CDD505-2E9C-101B-9397-08002B2CF9AE}" pid="9" name="LinkColor">
    <vt:r8>16711782</vt:r8>
  </property>
  <property fmtid="{D5CDD505-2E9C-101B-9397-08002B2CF9AE}" pid="10" name="MailAddress">
    <vt:lpwstr>hivstd.info@metrokc.gov</vt:lpwstr>
  </property>
  <property fmtid="{D5CDD505-2E9C-101B-9397-08002B2CF9AE}" pid="11" name="NavBtnPos">
    <vt:r8>4</vt:r8>
  </property>
  <property fmtid="{D5CDD505-2E9C-101B-9397-08002B2CF9AE}" pid="12" name="Other">
    <vt:lpwstr>
HIV/AIDS Program 
Seattle-King County Dept. of Public Health 
Phone: (206)205-STDs 
E-mail: hivstd.info@metrokc.gov
                   Larry Keil /Susie McIntyre 
                   HIV/AIDS Pro</vt:lpwstr>
  </property>
  <property fmtid="{D5CDD505-2E9C-101B-9397-08002B2CF9AE}" pid="13" name="OutputDir">
    <vt:lpwstr>H:\My Documents\homepage\healthed\Power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